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7DD-487F-4DA3-BB13-87D86474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316-4A15-4C57-887D-530B0588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19D-9B07-4FF3-80B5-E630B2DF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B12-865E-4EF1-A762-D95901F3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2A60-DFD9-4A92-A71A-64D8D104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FBD2-376A-4FB6-9492-C75C27C3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8040-2BD9-4428-8DC7-DD38EE1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EA38-D392-4685-B2AF-1A230835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2037-158B-46CE-B0DE-A338C4A6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DD8B-DF9C-453C-845F-E59D6E9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D22C-1040-40FF-AE13-6BED673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59E-A52D-423D-A619-615D5BB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3C4-9481-4107-87F1-4DEF519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B6CF-5809-44BB-8867-E3429A0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DE35-9C86-48F6-A0B5-143C7A5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CC1C-7E9C-402B-922F-1B576471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C53-28A4-4027-9B9F-F8723102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0A5-0389-4572-8E51-7517BF0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68F-18B5-429D-A436-25C9B9BC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153-4BAA-44F6-A42C-7F2F24E5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127-E3FD-4706-9028-29A9541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9E3-4903-40EE-872D-9434673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A35-103D-4889-8F23-FDA8C79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4E5-C857-4FAB-8C6C-1752D13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CF0-E640-425B-835A-6533C1986053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0822-1B63-403C-AE55-0049D280C767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nergía debe ser vencida por el movimiento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ser el ventilador una máquina, pierde energía por roce en sus descansos y por vibr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otra parte como el ventilador es movido por un motor, por intermedio de una transmisión que también absorbe energí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finiend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 = caudal de aire en 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/se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= depresión del circuito en mm c.a. o kg/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potencia del motor en HP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= eficiencia del ventilador. Varía entre 70 y 80 %según s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amaño, fabricación y punto de tra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HP = potencia necesaria para mover el caudal Q en u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ircuito cuya depresión es H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HP = potencia al freno del ventilador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= eficiencia de la transmisión. Varía entre 90 % 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ransmisiones por poleas y correas a 100 % en transmisio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i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ME = eficiencia del motor. Varía entre 85 y 95 %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BHP / DE x ME  (potencia al fren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AHP /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  (potencia para mover el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              Q x H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75 x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del motor es directamente proporcional a l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antidad de aire y a la pérdida de presión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716280"/>
            <a:ext cx="2448000" cy="0"/>
          </a:xfrm>
          <a:prstGeom prst="line">
            <a:avLst/>
          </a:prstGeom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5. LEYES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leyes de rendimiento básico de cualquier ventilador, se refieren a la velocidad de rotación (N), pudiendo determinar como afecta al volumen de aire movido, a la presión que es capaz de producir y a la energía absorbida por 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relaciones son:  Q            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  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onde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Q = caudal de aire movido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N = velocidad de rotación d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 = presión capaz de entregar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Pot = potencia necesaria para mover el ventilador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4221000"/>
            <a:ext cx="8380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653000"/>
            <a:ext cx="6858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6094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stas leyes se aplican prescindiendo del sistema de unidades usado, siempre que sean consist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i la resistencia del sistema contra la cual está operando el ventilador no cambia y varía la velocidad de rotación de este, se producen efectos considerables en su funcionamient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jemplos: Si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l caudal que mueve el ventilador aumenta al doble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4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resión aumenta cuatro ve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8 Pot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necesaria aumenta ocho vec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Una decisión de aumentar la velocidad del ventilador, tie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fectos considerables en la energía requerida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332080" y="366552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920" y="62341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4398840"/>
            <a:ext cx="203652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79640" y="1628640"/>
            <a:ext cx="5328720" cy="2028960"/>
            <a:chOff x="1979640" y="1628640"/>
            <a:chExt cx="5328720" cy="2028960"/>
          </a:xfrm>
        </p:grpSpPr>
        <p:grpSp>
          <p:nvGrpSpPr>
            <p:cNvPr id="178" name=""/>
            <p:cNvGrpSpPr/>
            <p:nvPr/>
          </p:nvGrpSpPr>
          <p:grpSpPr>
            <a:xfrm>
              <a:off x="1979640" y="1628640"/>
              <a:ext cx="5328720" cy="2028960"/>
              <a:chOff x="1979640" y="1628640"/>
              <a:chExt cx="5328720" cy="202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86560" y="1628640"/>
                <a:ext cx="3421800" cy="2028960"/>
              </a:xfrm>
              <a:custGeom>
                <a:avLst/>
                <a:gdLst/>
                <a:ahLst/>
                <a:rect l="l" t="t" r="r" b="b"/>
                <a:pathLst>
                  <a:path w="2774" h="1812">
                    <a:moveTo>
                      <a:pt x="101" y="1659"/>
                    </a:moveTo>
                    <a:cubicBezTo>
                      <a:pt x="205" y="1609"/>
                      <a:pt x="295" y="1462"/>
                      <a:pt x="366" y="1371"/>
                    </a:cubicBezTo>
                    <a:cubicBezTo>
                      <a:pt x="389" y="1311"/>
                      <a:pt x="416" y="1260"/>
                      <a:pt x="452" y="1207"/>
                    </a:cubicBezTo>
                    <a:cubicBezTo>
                      <a:pt x="460" y="1195"/>
                      <a:pt x="474" y="1188"/>
                      <a:pt x="483" y="1176"/>
                    </a:cubicBezTo>
                    <a:cubicBezTo>
                      <a:pt x="492" y="1164"/>
                      <a:pt x="496" y="1148"/>
                      <a:pt x="506" y="1137"/>
                    </a:cubicBezTo>
                    <a:cubicBezTo>
                      <a:pt x="564" y="1072"/>
                      <a:pt x="527" y="1140"/>
                      <a:pt x="576" y="1075"/>
                    </a:cubicBezTo>
                    <a:cubicBezTo>
                      <a:pt x="583" y="1066"/>
                      <a:pt x="585" y="1053"/>
                      <a:pt x="592" y="1044"/>
                    </a:cubicBezTo>
                    <a:cubicBezTo>
                      <a:pt x="598" y="1037"/>
                      <a:pt x="608" y="1034"/>
                      <a:pt x="615" y="1028"/>
                    </a:cubicBezTo>
                    <a:cubicBezTo>
                      <a:pt x="670" y="982"/>
                      <a:pt x="607" y="1030"/>
                      <a:pt x="662" y="974"/>
                    </a:cubicBezTo>
                    <a:cubicBezTo>
                      <a:pt x="723" y="912"/>
                      <a:pt x="670" y="984"/>
                      <a:pt x="709" y="927"/>
                    </a:cubicBezTo>
                    <a:cubicBezTo>
                      <a:pt x="696" y="863"/>
                      <a:pt x="687" y="817"/>
                      <a:pt x="701" y="748"/>
                    </a:cubicBezTo>
                    <a:cubicBezTo>
                      <a:pt x="707" y="717"/>
                      <a:pt x="756" y="681"/>
                      <a:pt x="779" y="662"/>
                    </a:cubicBezTo>
                    <a:cubicBezTo>
                      <a:pt x="817" y="630"/>
                      <a:pt x="843" y="584"/>
                      <a:pt x="872" y="545"/>
                    </a:cubicBezTo>
                    <a:cubicBezTo>
                      <a:pt x="902" y="430"/>
                      <a:pt x="915" y="362"/>
                      <a:pt x="1020" y="303"/>
                    </a:cubicBezTo>
                    <a:cubicBezTo>
                      <a:pt x="1048" y="287"/>
                      <a:pt x="1072" y="265"/>
                      <a:pt x="1098" y="249"/>
                    </a:cubicBezTo>
                    <a:cubicBezTo>
                      <a:pt x="1118" y="237"/>
                      <a:pt x="1161" y="218"/>
                      <a:pt x="1161" y="218"/>
                    </a:cubicBezTo>
                    <a:cubicBezTo>
                      <a:pt x="1173" y="186"/>
                      <a:pt x="1186" y="131"/>
                      <a:pt x="1215" y="109"/>
                    </a:cubicBezTo>
                    <a:cubicBezTo>
                      <a:pt x="1246" y="86"/>
                      <a:pt x="1274" y="55"/>
                      <a:pt x="1309" y="38"/>
                    </a:cubicBezTo>
                    <a:cubicBezTo>
                      <a:pt x="1340" y="23"/>
                      <a:pt x="1371" y="15"/>
                      <a:pt x="1402" y="0"/>
                    </a:cubicBezTo>
                    <a:cubicBezTo>
                      <a:pt x="1509" y="8"/>
                      <a:pt x="1587" y="33"/>
                      <a:pt x="1691" y="62"/>
                    </a:cubicBezTo>
                    <a:cubicBezTo>
                      <a:pt x="1744" y="94"/>
                      <a:pt x="1787" y="131"/>
                      <a:pt x="1839" y="163"/>
                    </a:cubicBezTo>
                    <a:cubicBezTo>
                      <a:pt x="1834" y="202"/>
                      <a:pt x="1832" y="242"/>
                      <a:pt x="1823" y="280"/>
                    </a:cubicBezTo>
                    <a:cubicBezTo>
                      <a:pt x="1821" y="289"/>
                      <a:pt x="1805" y="294"/>
                      <a:pt x="1807" y="303"/>
                    </a:cubicBezTo>
                    <a:cubicBezTo>
                      <a:pt x="1825" y="392"/>
                      <a:pt x="1943" y="427"/>
                      <a:pt x="1994" y="490"/>
                    </a:cubicBezTo>
                    <a:cubicBezTo>
                      <a:pt x="2043" y="551"/>
                      <a:pt x="2055" y="614"/>
                      <a:pt x="2080" y="685"/>
                    </a:cubicBezTo>
                    <a:cubicBezTo>
                      <a:pt x="2083" y="711"/>
                      <a:pt x="2070" y="745"/>
                      <a:pt x="2088" y="763"/>
                    </a:cubicBezTo>
                    <a:cubicBezTo>
                      <a:pt x="2106" y="781"/>
                      <a:pt x="2140" y="765"/>
                      <a:pt x="2166" y="771"/>
                    </a:cubicBezTo>
                    <a:cubicBezTo>
                      <a:pt x="2224" y="784"/>
                      <a:pt x="2267" y="841"/>
                      <a:pt x="2314" y="872"/>
                    </a:cubicBezTo>
                    <a:cubicBezTo>
                      <a:pt x="2317" y="885"/>
                      <a:pt x="2318" y="898"/>
                      <a:pt x="2322" y="911"/>
                    </a:cubicBezTo>
                    <a:cubicBezTo>
                      <a:pt x="2326" y="924"/>
                      <a:pt x="2333" y="937"/>
                      <a:pt x="2337" y="950"/>
                    </a:cubicBezTo>
                    <a:cubicBezTo>
                      <a:pt x="2366" y="1061"/>
                      <a:pt x="2336" y="995"/>
                      <a:pt x="2369" y="1059"/>
                    </a:cubicBezTo>
                    <a:cubicBezTo>
                      <a:pt x="2381" y="1112"/>
                      <a:pt x="2399" y="1154"/>
                      <a:pt x="2439" y="1192"/>
                    </a:cubicBezTo>
                    <a:cubicBezTo>
                      <a:pt x="2446" y="1223"/>
                      <a:pt x="2451" y="1255"/>
                      <a:pt x="2462" y="1285"/>
                    </a:cubicBezTo>
                    <a:cubicBezTo>
                      <a:pt x="2466" y="1319"/>
                      <a:pt x="2461" y="1357"/>
                      <a:pt x="2478" y="1387"/>
                    </a:cubicBezTo>
                    <a:cubicBezTo>
                      <a:pt x="2487" y="1403"/>
                      <a:pt x="2559" y="1451"/>
                      <a:pt x="2579" y="1465"/>
                    </a:cubicBezTo>
                    <a:cubicBezTo>
                      <a:pt x="2591" y="1522"/>
                      <a:pt x="2608" y="1607"/>
                      <a:pt x="2649" y="1652"/>
                    </a:cubicBezTo>
                    <a:cubicBezTo>
                      <a:pt x="2691" y="1698"/>
                      <a:pt x="2735" y="1735"/>
                      <a:pt x="2774" y="1784"/>
                    </a:cubicBezTo>
                    <a:cubicBezTo>
                      <a:pt x="2719" y="1812"/>
                      <a:pt x="2723" y="1781"/>
                      <a:pt x="2665" y="1769"/>
                    </a:cubicBezTo>
                    <a:cubicBezTo>
                      <a:pt x="2629" y="1762"/>
                      <a:pt x="2592" y="1758"/>
                      <a:pt x="2556" y="1753"/>
                    </a:cubicBezTo>
                    <a:cubicBezTo>
                      <a:pt x="2507" y="1733"/>
                      <a:pt x="2452" y="1719"/>
                      <a:pt x="2407" y="1691"/>
                    </a:cubicBezTo>
                    <a:cubicBezTo>
                      <a:pt x="2297" y="1696"/>
                      <a:pt x="2202" y="1706"/>
                      <a:pt x="2096" y="1722"/>
                    </a:cubicBezTo>
                    <a:cubicBezTo>
                      <a:pt x="1987" y="1714"/>
                      <a:pt x="1890" y="1723"/>
                      <a:pt x="1784" y="1737"/>
                    </a:cubicBezTo>
                    <a:cubicBezTo>
                      <a:pt x="1646" y="1735"/>
                      <a:pt x="1507" y="1752"/>
                      <a:pt x="1371" y="1730"/>
                    </a:cubicBezTo>
                    <a:cubicBezTo>
                      <a:pt x="1350" y="1727"/>
                      <a:pt x="1375" y="1675"/>
                      <a:pt x="1355" y="1667"/>
                    </a:cubicBezTo>
                    <a:cubicBezTo>
                      <a:pt x="1314" y="1652"/>
                      <a:pt x="1267" y="1672"/>
                      <a:pt x="1223" y="1675"/>
                    </a:cubicBezTo>
                    <a:cubicBezTo>
                      <a:pt x="1116" y="1719"/>
                      <a:pt x="1004" y="1702"/>
                      <a:pt x="888" y="1706"/>
                    </a:cubicBezTo>
                    <a:cubicBezTo>
                      <a:pt x="846" y="1720"/>
                      <a:pt x="805" y="1725"/>
                      <a:pt x="763" y="1737"/>
                    </a:cubicBezTo>
                    <a:cubicBezTo>
                      <a:pt x="609" y="1732"/>
                      <a:pt x="561" y="1735"/>
                      <a:pt x="420" y="1714"/>
                    </a:cubicBezTo>
                    <a:cubicBezTo>
                      <a:pt x="278" y="1693"/>
                      <a:pt x="143" y="1655"/>
                      <a:pt x="0" y="1644"/>
                    </a:cubicBezTo>
                    <a:cubicBezTo>
                      <a:pt x="5" y="1652"/>
                      <a:pt x="7" y="1662"/>
                      <a:pt x="15" y="1667"/>
                    </a:cubicBezTo>
                    <a:cubicBezTo>
                      <a:pt x="27" y="1674"/>
                      <a:pt x="42" y="1670"/>
                      <a:pt x="54" y="1675"/>
                    </a:cubicBezTo>
                    <a:cubicBezTo>
                      <a:pt x="74" y="1683"/>
                      <a:pt x="90" y="1697"/>
                      <a:pt x="109" y="1706"/>
                    </a:cubicBezTo>
                    <a:cubicBezTo>
                      <a:pt x="137" y="1696"/>
                      <a:pt x="143" y="1680"/>
                      <a:pt x="163" y="1659"/>
                    </a:cubicBez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82840" y="2112120"/>
                <a:ext cx="2151000" cy="1224720"/>
              </a:xfrm>
              <a:custGeom>
                <a:avLst/>
                <a:gdLst/>
                <a:ahLst/>
                <a:rect l="l" t="t" r="r" b="b"/>
                <a:pathLst>
                  <a:path w="1744" h="1094">
                    <a:moveTo>
                      <a:pt x="46" y="1060"/>
                    </a:moveTo>
                    <a:cubicBezTo>
                      <a:pt x="57" y="1016"/>
                      <a:pt x="82" y="997"/>
                      <a:pt x="124" y="982"/>
                    </a:cubicBezTo>
                    <a:cubicBezTo>
                      <a:pt x="173" y="992"/>
                      <a:pt x="193" y="1010"/>
                      <a:pt x="156" y="1068"/>
                    </a:cubicBezTo>
                    <a:cubicBezTo>
                      <a:pt x="146" y="1084"/>
                      <a:pt x="119" y="1078"/>
                      <a:pt x="101" y="1083"/>
                    </a:cubicBezTo>
                    <a:cubicBezTo>
                      <a:pt x="27" y="1064"/>
                      <a:pt x="59" y="1076"/>
                      <a:pt x="202" y="1068"/>
                    </a:cubicBezTo>
                    <a:cubicBezTo>
                      <a:pt x="279" y="1042"/>
                      <a:pt x="233" y="1053"/>
                      <a:pt x="343" y="1044"/>
                    </a:cubicBezTo>
                    <a:cubicBezTo>
                      <a:pt x="374" y="1036"/>
                      <a:pt x="404" y="1027"/>
                      <a:pt x="436" y="1021"/>
                    </a:cubicBezTo>
                    <a:cubicBezTo>
                      <a:pt x="578" y="1027"/>
                      <a:pt x="693" y="1037"/>
                      <a:pt x="834" y="1044"/>
                    </a:cubicBezTo>
                    <a:cubicBezTo>
                      <a:pt x="852" y="1054"/>
                      <a:pt x="867" y="1073"/>
                      <a:pt x="888" y="1075"/>
                    </a:cubicBezTo>
                    <a:cubicBezTo>
                      <a:pt x="904" y="1077"/>
                      <a:pt x="919" y="1070"/>
                      <a:pt x="935" y="1068"/>
                    </a:cubicBezTo>
                    <a:cubicBezTo>
                      <a:pt x="1015" y="1060"/>
                      <a:pt x="1105" y="1056"/>
                      <a:pt x="1184" y="1052"/>
                    </a:cubicBezTo>
                    <a:cubicBezTo>
                      <a:pt x="1270" y="1041"/>
                      <a:pt x="1356" y="1040"/>
                      <a:pt x="1441" y="1029"/>
                    </a:cubicBezTo>
                    <a:cubicBezTo>
                      <a:pt x="1427" y="816"/>
                      <a:pt x="1471" y="928"/>
                      <a:pt x="1130" y="912"/>
                    </a:cubicBezTo>
                    <a:cubicBezTo>
                      <a:pt x="1100" y="911"/>
                      <a:pt x="1044" y="888"/>
                      <a:pt x="1044" y="888"/>
                    </a:cubicBezTo>
                    <a:cubicBezTo>
                      <a:pt x="782" y="896"/>
                      <a:pt x="530" y="915"/>
                      <a:pt x="265" y="920"/>
                    </a:cubicBezTo>
                    <a:cubicBezTo>
                      <a:pt x="221" y="933"/>
                      <a:pt x="178" y="943"/>
                      <a:pt x="132" y="951"/>
                    </a:cubicBezTo>
                    <a:cubicBezTo>
                      <a:pt x="116" y="956"/>
                      <a:pt x="85" y="950"/>
                      <a:pt x="85" y="966"/>
                    </a:cubicBezTo>
                    <a:cubicBezTo>
                      <a:pt x="85" y="974"/>
                      <a:pt x="101" y="973"/>
                      <a:pt x="109" y="974"/>
                    </a:cubicBezTo>
                    <a:cubicBezTo>
                      <a:pt x="135" y="978"/>
                      <a:pt x="161" y="979"/>
                      <a:pt x="187" y="982"/>
                    </a:cubicBezTo>
                    <a:cubicBezTo>
                      <a:pt x="184" y="1005"/>
                      <a:pt x="188" y="1030"/>
                      <a:pt x="179" y="1052"/>
                    </a:cubicBezTo>
                    <a:cubicBezTo>
                      <a:pt x="178" y="1055"/>
                      <a:pt x="111" y="1072"/>
                      <a:pt x="101" y="1075"/>
                    </a:cubicBezTo>
                    <a:cubicBezTo>
                      <a:pt x="85" y="1080"/>
                      <a:pt x="54" y="1091"/>
                      <a:pt x="54" y="1091"/>
                    </a:cubicBezTo>
                    <a:cubicBezTo>
                      <a:pt x="41" y="1088"/>
                      <a:pt x="22" y="1094"/>
                      <a:pt x="15" y="1083"/>
                    </a:cubicBezTo>
                    <a:cubicBezTo>
                      <a:pt x="0" y="1061"/>
                      <a:pt x="37" y="1014"/>
                      <a:pt x="54" y="1005"/>
                    </a:cubicBezTo>
                    <a:cubicBezTo>
                      <a:pt x="106" y="980"/>
                      <a:pt x="172" y="982"/>
                      <a:pt x="226" y="959"/>
                    </a:cubicBezTo>
                    <a:cubicBezTo>
                      <a:pt x="285" y="934"/>
                      <a:pt x="301" y="905"/>
                      <a:pt x="366" y="888"/>
                    </a:cubicBezTo>
                    <a:cubicBezTo>
                      <a:pt x="467" y="890"/>
                      <a:pt x="741" y="926"/>
                      <a:pt x="888" y="888"/>
                    </a:cubicBezTo>
                    <a:cubicBezTo>
                      <a:pt x="1032" y="894"/>
                      <a:pt x="1159" y="912"/>
                      <a:pt x="1301" y="920"/>
                    </a:cubicBezTo>
                    <a:cubicBezTo>
                      <a:pt x="1409" y="913"/>
                      <a:pt x="1535" y="934"/>
                      <a:pt x="1628" y="873"/>
                    </a:cubicBezTo>
                    <a:cubicBezTo>
                      <a:pt x="1640" y="826"/>
                      <a:pt x="1623" y="767"/>
                      <a:pt x="1566" y="764"/>
                    </a:cubicBezTo>
                    <a:cubicBezTo>
                      <a:pt x="1436" y="757"/>
                      <a:pt x="1306" y="759"/>
                      <a:pt x="1176" y="756"/>
                    </a:cubicBezTo>
                    <a:cubicBezTo>
                      <a:pt x="1166" y="751"/>
                      <a:pt x="1155" y="746"/>
                      <a:pt x="1145" y="740"/>
                    </a:cubicBezTo>
                    <a:cubicBezTo>
                      <a:pt x="1137" y="735"/>
                      <a:pt x="1119" y="733"/>
                      <a:pt x="1122" y="725"/>
                    </a:cubicBezTo>
                    <a:cubicBezTo>
                      <a:pt x="1135" y="693"/>
                      <a:pt x="1216" y="695"/>
                      <a:pt x="1231" y="694"/>
                    </a:cubicBezTo>
                    <a:cubicBezTo>
                      <a:pt x="1308" y="674"/>
                      <a:pt x="1388" y="684"/>
                      <a:pt x="1465" y="701"/>
                    </a:cubicBezTo>
                    <a:cubicBezTo>
                      <a:pt x="1510" y="694"/>
                      <a:pt x="1509" y="704"/>
                      <a:pt x="1535" y="670"/>
                    </a:cubicBezTo>
                    <a:cubicBezTo>
                      <a:pt x="1546" y="655"/>
                      <a:pt x="1566" y="623"/>
                      <a:pt x="1566" y="623"/>
                    </a:cubicBezTo>
                    <a:cubicBezTo>
                      <a:pt x="1422" y="482"/>
                      <a:pt x="1307" y="528"/>
                      <a:pt x="1083" y="522"/>
                    </a:cubicBezTo>
                    <a:cubicBezTo>
                      <a:pt x="1101" y="471"/>
                      <a:pt x="1213" y="463"/>
                      <a:pt x="1262" y="460"/>
                    </a:cubicBezTo>
                    <a:cubicBezTo>
                      <a:pt x="1343" y="456"/>
                      <a:pt x="1423" y="455"/>
                      <a:pt x="1504" y="452"/>
                    </a:cubicBezTo>
                    <a:cubicBezTo>
                      <a:pt x="1496" y="322"/>
                      <a:pt x="1521" y="322"/>
                      <a:pt x="1418" y="304"/>
                    </a:cubicBezTo>
                    <a:cubicBezTo>
                      <a:pt x="1304" y="309"/>
                      <a:pt x="1243" y="310"/>
                      <a:pt x="1145" y="335"/>
                    </a:cubicBezTo>
                    <a:cubicBezTo>
                      <a:pt x="1132" y="327"/>
                      <a:pt x="1111" y="326"/>
                      <a:pt x="1106" y="312"/>
                    </a:cubicBezTo>
                    <a:cubicBezTo>
                      <a:pt x="1103" y="303"/>
                      <a:pt x="1122" y="301"/>
                      <a:pt x="1130" y="296"/>
                    </a:cubicBezTo>
                    <a:cubicBezTo>
                      <a:pt x="1150" y="285"/>
                      <a:pt x="1169" y="267"/>
                      <a:pt x="1192" y="265"/>
                    </a:cubicBezTo>
                    <a:cubicBezTo>
                      <a:pt x="1253" y="259"/>
                      <a:pt x="1311" y="252"/>
                      <a:pt x="1371" y="242"/>
                    </a:cubicBezTo>
                    <a:cubicBezTo>
                      <a:pt x="1389" y="239"/>
                      <a:pt x="1408" y="238"/>
                      <a:pt x="1426" y="234"/>
                    </a:cubicBezTo>
                    <a:cubicBezTo>
                      <a:pt x="1447" y="230"/>
                      <a:pt x="1488" y="218"/>
                      <a:pt x="1488" y="218"/>
                    </a:cubicBezTo>
                    <a:cubicBezTo>
                      <a:pt x="1434" y="178"/>
                      <a:pt x="1375" y="146"/>
                      <a:pt x="1309" y="132"/>
                    </a:cubicBezTo>
                    <a:cubicBezTo>
                      <a:pt x="1272" y="114"/>
                      <a:pt x="1241" y="108"/>
                      <a:pt x="1200" y="101"/>
                    </a:cubicBezTo>
                    <a:cubicBezTo>
                      <a:pt x="1171" y="103"/>
                      <a:pt x="1026" y="112"/>
                      <a:pt x="989" y="117"/>
                    </a:cubicBezTo>
                    <a:cubicBezTo>
                      <a:pt x="962" y="120"/>
                      <a:pt x="938" y="138"/>
                      <a:pt x="911" y="140"/>
                    </a:cubicBezTo>
                    <a:cubicBezTo>
                      <a:pt x="691" y="158"/>
                      <a:pt x="782" y="149"/>
                      <a:pt x="639" y="164"/>
                    </a:cubicBezTo>
                    <a:cubicBezTo>
                      <a:pt x="616" y="161"/>
                      <a:pt x="590" y="167"/>
                      <a:pt x="569" y="156"/>
                    </a:cubicBezTo>
                    <a:cubicBezTo>
                      <a:pt x="562" y="152"/>
                      <a:pt x="574" y="140"/>
                      <a:pt x="576" y="132"/>
                    </a:cubicBezTo>
                    <a:cubicBezTo>
                      <a:pt x="587" y="90"/>
                      <a:pt x="601" y="90"/>
                      <a:pt x="639" y="70"/>
                    </a:cubicBezTo>
                    <a:cubicBezTo>
                      <a:pt x="718" y="79"/>
                      <a:pt x="707" y="66"/>
                      <a:pt x="724" y="125"/>
                    </a:cubicBezTo>
                    <a:cubicBezTo>
                      <a:pt x="722" y="138"/>
                      <a:pt x="730" y="161"/>
                      <a:pt x="717" y="164"/>
                    </a:cubicBezTo>
                    <a:cubicBezTo>
                      <a:pt x="612" y="192"/>
                      <a:pt x="617" y="182"/>
                      <a:pt x="600" y="132"/>
                    </a:cubicBezTo>
                    <a:cubicBezTo>
                      <a:pt x="629" y="47"/>
                      <a:pt x="598" y="115"/>
                      <a:pt x="802" y="101"/>
                    </a:cubicBezTo>
                    <a:cubicBezTo>
                      <a:pt x="876" y="96"/>
                      <a:pt x="950" y="83"/>
                      <a:pt x="1021" y="62"/>
                    </a:cubicBezTo>
                    <a:cubicBezTo>
                      <a:pt x="1069" y="31"/>
                      <a:pt x="1120" y="22"/>
                      <a:pt x="1176" y="16"/>
                    </a:cubicBezTo>
                    <a:cubicBezTo>
                      <a:pt x="1246" y="18"/>
                      <a:pt x="1321" y="0"/>
                      <a:pt x="1387" y="23"/>
                    </a:cubicBezTo>
                    <a:cubicBezTo>
                      <a:pt x="1409" y="31"/>
                      <a:pt x="1385" y="72"/>
                      <a:pt x="1395" y="93"/>
                    </a:cubicBezTo>
                    <a:cubicBezTo>
                      <a:pt x="1403" y="111"/>
                      <a:pt x="1462" y="119"/>
                      <a:pt x="1480" y="125"/>
                    </a:cubicBezTo>
                    <a:cubicBezTo>
                      <a:pt x="1478" y="156"/>
                      <a:pt x="1495" y="196"/>
                      <a:pt x="1473" y="218"/>
                    </a:cubicBezTo>
                    <a:cubicBezTo>
                      <a:pt x="1419" y="272"/>
                      <a:pt x="1381" y="194"/>
                      <a:pt x="1371" y="164"/>
                    </a:cubicBezTo>
                    <a:cubicBezTo>
                      <a:pt x="1384" y="87"/>
                      <a:pt x="1396" y="107"/>
                      <a:pt x="1473" y="117"/>
                    </a:cubicBezTo>
                    <a:cubicBezTo>
                      <a:pt x="1481" y="134"/>
                      <a:pt x="1493" y="190"/>
                      <a:pt x="1504" y="203"/>
                    </a:cubicBezTo>
                    <a:cubicBezTo>
                      <a:pt x="1541" y="247"/>
                      <a:pt x="1618" y="223"/>
                      <a:pt x="1675" y="226"/>
                    </a:cubicBezTo>
                    <a:cubicBezTo>
                      <a:pt x="1696" y="223"/>
                      <a:pt x="1719" y="228"/>
                      <a:pt x="1737" y="218"/>
                    </a:cubicBezTo>
                    <a:cubicBezTo>
                      <a:pt x="1744" y="214"/>
                      <a:pt x="1732" y="203"/>
                      <a:pt x="1730" y="195"/>
                    </a:cubicBezTo>
                    <a:cubicBezTo>
                      <a:pt x="1722" y="164"/>
                      <a:pt x="1712" y="133"/>
                      <a:pt x="1706" y="101"/>
                    </a:cubicBezTo>
                    <a:cubicBezTo>
                      <a:pt x="1704" y="88"/>
                      <a:pt x="1706" y="73"/>
                      <a:pt x="1699" y="62"/>
                    </a:cubicBezTo>
                    <a:cubicBezTo>
                      <a:pt x="1694" y="55"/>
                      <a:pt x="1683" y="57"/>
                      <a:pt x="1675" y="55"/>
                    </a:cubicBezTo>
                    <a:cubicBezTo>
                      <a:pt x="1662" y="60"/>
                      <a:pt x="1644" y="58"/>
                      <a:pt x="1636" y="70"/>
                    </a:cubicBezTo>
                    <a:cubicBezTo>
                      <a:pt x="1630" y="79"/>
                      <a:pt x="1642" y="90"/>
                      <a:pt x="1644" y="101"/>
                    </a:cubicBezTo>
                    <a:cubicBezTo>
                      <a:pt x="1648" y="124"/>
                      <a:pt x="1649" y="148"/>
                      <a:pt x="1652" y="171"/>
                    </a:cubicBezTo>
                    <a:cubicBezTo>
                      <a:pt x="1647" y="189"/>
                      <a:pt x="1653" y="218"/>
                      <a:pt x="1636" y="226"/>
                    </a:cubicBezTo>
                    <a:cubicBezTo>
                      <a:pt x="1610" y="238"/>
                      <a:pt x="1550" y="218"/>
                      <a:pt x="1550" y="218"/>
                    </a:cubicBezTo>
                  </a:path>
                </a:pathLst>
              </a:custGeom>
              <a:noFill/>
              <a:ln w="1908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9640" y="2112120"/>
                <a:ext cx="2131560" cy="1289880"/>
              </a:xfrm>
              <a:prstGeom prst="rightArrow">
                <a:avLst>
                  <a:gd name="adj1" fmla="val 50000"/>
                  <a:gd name="adj2" fmla="val 41313"/>
                </a:avLst>
              </a:prstGeom>
              <a:solidFill>
                <a:srgbClr val="ff993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Ventilació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411120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94028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28400" y="2703600"/>
              <a:ext cx="58680" cy="4298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887440" y="2380680"/>
              <a:ext cx="295920" cy="21492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03040" y="2219400"/>
              <a:ext cx="142092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765000"/>
            <a:ext cx="19447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28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645000"/>
            <a:ext cx="71460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2708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sta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773360"/>
            <a:ext cx="93672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250920" y="2133720"/>
          <a:ext cx="148896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14889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68360" y="5229360"/>
            <a:ext cx="115236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 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26564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Q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56092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4 H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92360" y="4653000"/>
            <a:ext cx="1366920" cy="9367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5589720"/>
            <a:ext cx="1366920" cy="360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869000"/>
            <a:ext cx="172908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10000"/>
                </a:solidFill>
                <a:latin typeface="Arial"/>
              </a:rPr>
              <a:t>8 Po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653000"/>
            <a:ext cx="1511280" cy="647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84720" y="5373360"/>
            <a:ext cx="1439640" cy="576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6. COMPARACION DE TIPOS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es centrífugos o radiales: se usan en las tres clasificaciones de ventiladores para min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ea la configuración de las aspas en relación con la dirección de rotación se tien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dela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radi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atrá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uede generar presiones bastante más altas que el axial, su limitante es su geometría, la forma de la carcaz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entiladores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ventilador más sencillo para mover aire es un ventilador con impulsor corriente con aspas 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 por si solo originaría un rendimiento inaceptablemente 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busca un ventilador con aspas de sección con superficie de sustentación, acondicionado en una carcaza resistente y que a menudo tiene aspas guías para rectificar el movimiento del aire y mejorar su efici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oca capacidad para producir presión respecto al ventilador radial se supera agregando más de una etapa, teniendo el inconveniente de aumentar el largo de las instal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0920" y="860400"/>
            <a:ext cx="5416560" cy="588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7. CURVAS CARACTERISTI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 igual que las galerías de ventilación de una mina, los ventiladores también pueden ser representados en un sistema de coordenadas H - Q, mediante una curva llamada Curva Característica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 característica pues se refiere a una máquina determinada, con dimensiones geométricas y velocidades de rotación propi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AIDA DE PRESION DEL SISTEMA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rva Característica de un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iene una relación matemática entre el caudal y la presión que obedece a la fórmula H = a - bQ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Representa una recta donde “a” es función de la velocidad tangencial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” depende de la velocidad tangencial y radial, del diámetro, del ancho y ángulo de curvatura de los álabes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alquier variación de estos parámetros significa un cambio en la curv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cuación implica el hecho que el rotor debe tener un número infinito de álabes. Esto no es posible de logra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un número finito de álabes se producen pérdidas por la formación de remolinos entre los álab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demás se producen pérdidas por el roce del aire con la carcaza y el impulsor o rotor y pérdidas por choqu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roce aumentan a medida que la velocidad del aire es mayor o cuando aumenta el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choque aumentan en los extremos ( con mucho o poco cauda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0720" y="2173320"/>
          <a:ext cx="79171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73320"/>
                    <a:ext cx="79171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43000" y="1905120"/>
            <a:ext cx="0" cy="403848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943600"/>
            <a:ext cx="6172200" cy="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047760" y="3200400"/>
            <a:ext cx="8381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666880"/>
            <a:ext cx="6095880" cy="1371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6095880" cy="1828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666880"/>
            <a:ext cx="5867280" cy="2514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 = a - b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40384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número finito de álab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9528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rozamiento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rva característic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5160" y="5691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rva Característica de un Ventilador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iene una curva característica similar a la del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rincipal característica es que existe una inclinación distinta donde disminuye su presión a medida que decrece su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característica se conoce como atascamiento y proviene del desprendimiento de corrientes de aire desde la superficie de las asp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produce una turbulencia y con ello se reduce la habilidad de la superficie de sustentación para producir presió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efecto de atascamiento es muy grande, el ventilador vibra visiblemente, las aspas se fatigan y se rompen violentamen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NTILADORES DE MINA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Mientras mayor sea el ángulo del aspa o el ángulo de ataque (dirección del aire con la cuerda del aspa) más grave será el efecto de atascamiento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tanto se considera solo una porción de la curva característ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14400" y="2514240"/>
            <a:ext cx="0" cy="38862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6400800"/>
            <a:ext cx="487692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8800" y="3225960"/>
            <a:ext cx="3895560" cy="3189240"/>
          </a:xfrm>
          <a:custGeom>
            <a:avLst/>
            <a:gdLst/>
            <a:ahLst/>
            <a:rect l="l" t="t" r="r" b="b"/>
            <a:pathLst>
              <a:path w="2454" h="2009">
                <a:moveTo>
                  <a:pt x="0" y="68"/>
                </a:moveTo>
                <a:cubicBezTo>
                  <a:pt x="8" y="118"/>
                  <a:pt x="16" y="163"/>
                  <a:pt x="23" y="214"/>
                </a:cubicBezTo>
                <a:cubicBezTo>
                  <a:pt x="27" y="240"/>
                  <a:pt x="34" y="278"/>
                  <a:pt x="61" y="291"/>
                </a:cubicBezTo>
                <a:cubicBezTo>
                  <a:pt x="98" y="309"/>
                  <a:pt x="151" y="320"/>
                  <a:pt x="192" y="329"/>
                </a:cubicBezTo>
                <a:cubicBezTo>
                  <a:pt x="261" y="322"/>
                  <a:pt x="270" y="320"/>
                  <a:pt x="315" y="275"/>
                </a:cubicBezTo>
                <a:cubicBezTo>
                  <a:pt x="328" y="236"/>
                  <a:pt x="358" y="205"/>
                  <a:pt x="376" y="168"/>
                </a:cubicBezTo>
                <a:cubicBezTo>
                  <a:pt x="421" y="78"/>
                  <a:pt x="422" y="41"/>
                  <a:pt x="523" y="6"/>
                </a:cubicBezTo>
                <a:cubicBezTo>
                  <a:pt x="666" y="9"/>
                  <a:pt x="836" y="0"/>
                  <a:pt x="984" y="29"/>
                </a:cubicBezTo>
                <a:cubicBezTo>
                  <a:pt x="1128" y="57"/>
                  <a:pt x="1270" y="107"/>
                  <a:pt x="1415" y="129"/>
                </a:cubicBezTo>
                <a:cubicBezTo>
                  <a:pt x="1452" y="168"/>
                  <a:pt x="1522" y="161"/>
                  <a:pt x="1569" y="191"/>
                </a:cubicBezTo>
                <a:cubicBezTo>
                  <a:pt x="1618" y="222"/>
                  <a:pt x="1661" y="262"/>
                  <a:pt x="1707" y="298"/>
                </a:cubicBezTo>
                <a:cubicBezTo>
                  <a:pt x="1736" y="320"/>
                  <a:pt x="1794" y="356"/>
                  <a:pt x="1815" y="391"/>
                </a:cubicBezTo>
                <a:cubicBezTo>
                  <a:pt x="1856" y="460"/>
                  <a:pt x="1855" y="502"/>
                  <a:pt x="1938" y="529"/>
                </a:cubicBezTo>
                <a:cubicBezTo>
                  <a:pt x="1950" y="600"/>
                  <a:pt x="2003" y="641"/>
                  <a:pt x="2046" y="698"/>
                </a:cubicBezTo>
                <a:cubicBezTo>
                  <a:pt x="2064" y="771"/>
                  <a:pt x="2086" y="842"/>
                  <a:pt x="2107" y="914"/>
                </a:cubicBezTo>
                <a:cubicBezTo>
                  <a:pt x="2113" y="934"/>
                  <a:pt x="2114" y="956"/>
                  <a:pt x="2123" y="975"/>
                </a:cubicBezTo>
                <a:cubicBezTo>
                  <a:pt x="2135" y="998"/>
                  <a:pt x="2154" y="1016"/>
                  <a:pt x="2169" y="1037"/>
                </a:cubicBezTo>
                <a:cubicBezTo>
                  <a:pt x="2204" y="1180"/>
                  <a:pt x="2188" y="1119"/>
                  <a:pt x="2215" y="1221"/>
                </a:cubicBezTo>
                <a:cubicBezTo>
                  <a:pt x="2223" y="1250"/>
                  <a:pt x="2248" y="1271"/>
                  <a:pt x="2261" y="1298"/>
                </a:cubicBezTo>
                <a:cubicBezTo>
                  <a:pt x="2280" y="1336"/>
                  <a:pt x="2274" y="1351"/>
                  <a:pt x="2284" y="1391"/>
                </a:cubicBezTo>
                <a:cubicBezTo>
                  <a:pt x="2306" y="1479"/>
                  <a:pt x="2289" y="1400"/>
                  <a:pt x="2315" y="1468"/>
                </a:cubicBezTo>
                <a:cubicBezTo>
                  <a:pt x="2327" y="1498"/>
                  <a:pt x="2346" y="1560"/>
                  <a:pt x="2346" y="1560"/>
                </a:cubicBezTo>
                <a:cubicBezTo>
                  <a:pt x="2359" y="1646"/>
                  <a:pt x="2383" y="1736"/>
                  <a:pt x="2423" y="1814"/>
                </a:cubicBezTo>
                <a:cubicBezTo>
                  <a:pt x="2429" y="1855"/>
                  <a:pt x="2429" y="1897"/>
                  <a:pt x="2438" y="1937"/>
                </a:cubicBezTo>
                <a:cubicBezTo>
                  <a:pt x="2454" y="2009"/>
                  <a:pt x="2453" y="1937"/>
                  <a:pt x="2453" y="1968"/>
                </a:cubicBezTo>
              </a:path>
            </a:pathLst>
          </a:custGeom>
          <a:noFill/>
          <a:ln w="381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2514600"/>
            <a:ext cx="0" cy="685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Zona de atascamien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276720"/>
            <a:ext cx="2133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276720"/>
            <a:ext cx="0" cy="3200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8862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ción de la curva característica para ser usad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82800" y="1981080"/>
            <a:ext cx="0" cy="36576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2800" y="5638680"/>
            <a:ext cx="44956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774440" y="2971800"/>
            <a:ext cx="731448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-1393200" y="-1067400"/>
            <a:ext cx="655272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848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06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720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V curva del ventila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796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R resistencia del circui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>
            <a:off x="1834560" y="3716280"/>
            <a:ext cx="3081240" cy="685800"/>
          </a:xfrm>
          <a:custGeom>
            <a:avLst/>
            <a:gdLst/>
            <a:ahLst/>
            <a:rect l="l" t="t" r="r" b="b"/>
            <a:pathLst>
              <a:path w="2036" h="432">
                <a:moveTo>
                  <a:pt x="76" y="0"/>
                </a:moveTo>
                <a:cubicBezTo>
                  <a:pt x="45" y="41"/>
                  <a:pt x="32" y="87"/>
                  <a:pt x="20" y="136"/>
                </a:cubicBezTo>
                <a:cubicBezTo>
                  <a:pt x="28" y="279"/>
                  <a:pt x="0" y="311"/>
                  <a:pt x="124" y="352"/>
                </a:cubicBezTo>
                <a:cubicBezTo>
                  <a:pt x="182" y="396"/>
                  <a:pt x="268" y="420"/>
                  <a:pt x="340" y="432"/>
                </a:cubicBezTo>
                <a:cubicBezTo>
                  <a:pt x="416" y="415"/>
                  <a:pt x="415" y="423"/>
                  <a:pt x="436" y="360"/>
                </a:cubicBezTo>
                <a:cubicBezTo>
                  <a:pt x="433" y="299"/>
                  <a:pt x="437" y="237"/>
                  <a:pt x="428" y="176"/>
                </a:cubicBezTo>
                <a:cubicBezTo>
                  <a:pt x="427" y="167"/>
                  <a:pt x="343" y="104"/>
                  <a:pt x="332" y="96"/>
                </a:cubicBezTo>
                <a:cubicBezTo>
                  <a:pt x="318" y="53"/>
                  <a:pt x="290" y="41"/>
                  <a:pt x="252" y="16"/>
                </a:cubicBezTo>
                <a:cubicBezTo>
                  <a:pt x="238" y="7"/>
                  <a:pt x="204" y="0"/>
                  <a:pt x="204" y="0"/>
                </a:cubicBezTo>
                <a:cubicBezTo>
                  <a:pt x="163" y="6"/>
                  <a:pt x="123" y="11"/>
                  <a:pt x="84" y="24"/>
                </a:cubicBezTo>
                <a:cubicBezTo>
                  <a:pt x="103" y="28"/>
                  <a:pt x="154" y="38"/>
                  <a:pt x="172" y="40"/>
                </a:cubicBezTo>
                <a:cubicBezTo>
                  <a:pt x="249" y="47"/>
                  <a:pt x="404" y="56"/>
                  <a:pt x="404" y="56"/>
                </a:cubicBezTo>
                <a:cubicBezTo>
                  <a:pt x="651" y="127"/>
                  <a:pt x="910" y="123"/>
                  <a:pt x="1164" y="128"/>
                </a:cubicBezTo>
                <a:cubicBezTo>
                  <a:pt x="1452" y="124"/>
                  <a:pt x="1747" y="104"/>
                  <a:pt x="2036" y="104"/>
                </a:cubicBez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4292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n cualquier ventilador se puede variar su característica al alterar su veloci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ventilador está conectado al motor mediante propulsión convencional, cambiar su velocidad de rotación implica variar la relación de poleas y correas de propulsión o cambiar el mecanismo interno de la caja de engranaj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s cambios no son fáciles de efectuar, menos a intervalos frecu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l servicio del ventilador a velocidad constante se logra por otros medi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) colocación de un regulador; consiste en estrangular la entrada o salida del ventilador. Es un método económico pero significa un consumo de energía que no se aprovecha, equivalente a la energía que disipa el regulador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)Variación de las aspas, dado que las aspas pueden ser de inclinación ajustable, lo cual incluso se logra en la actualidad sin detener la máqu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 ángulos de las aspas produce una familia de curvas características de un ventilador, a velocidad fija, ampliando considerablemente el rango de servicio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) Cambio de revoluciones del motor. Existen cajas eléctricas que permiten cambiar la frecuencia del motor eléctrico y con ello variar su velocidad de rotación a voluntad, sin afectar su eficiencia. Son los convertidores de frecu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8. ESTACIONES PRINCIPALES DE VENTILAC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bra civil de importanc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opografía de precisió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ccesos expedit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ala de equipo eléctrico aislad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oncepto de mantenibil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islamiento por segur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renaj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peración remota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87280" y="1033560"/>
            <a:ext cx="7056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. HISTORIA DEL DESARROLLO DEL VENTILADOR DE MIN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enzaron a usarse en la segunda mitad del siglo XIX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ran centrífugos, de gran diámetro y de velocidad lent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el nacimiento de la aviación y el avance de la aerodinámica, aparece el ventilador axial, los que a la larga han mostrado mejores resultad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n embargo los ventiladores centrífugos han sido mejorados, sobre la base de principios aerodinámicos, por lo que han recuperado vig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2. PARTES DE UN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 ventilador es una máquina rotatoria que expulsa aire en forma continu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artes principales que componen un ventilador y que afectan sus propiedades aerodinámicas s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MPULSOR o hélice que es la parte del ventilador que al rotar imparte movimiento al ai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RCAZA que es estacionaria y que guía el aire hacia y desde 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050920" y="825480"/>
          <a:ext cx="64771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25480"/>
                    <a:ext cx="6477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724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5373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IMPULS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35280" y="4076640"/>
            <a:ext cx="2232000" cy="1440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CARCAZ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03640" y="1628640"/>
            <a:ext cx="647640" cy="2232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gún su tip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adiales o Centrífugos: el aire abandona el impulsor en una dirección perpendicular respecto al eje d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xiales: la forma como el aire pasa a través del ventilador se asemeja al principio de acción de un par tornillo/tuerc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(el impulsor tiene el papel de tornillo y la corriente de aire hace las veces de tuerca. Al girar el impulsor tiene movimiento de avance y de rotació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836640"/>
          <a:ext cx="40719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40719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211640" y="1700280"/>
          <a:ext cx="441648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700280"/>
                    <a:ext cx="441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u funció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principal o de superficie: ventilan toda la mina. Por el pasa todo el aire del circuito que sirv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reforzador: instalados en un paso principal subterráneo, para ayudar al ventilador principal, comúnmente a ventilar un circuito de alta resist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Auxiliar: se instalan en conjunto con ductos para ventilar una galería de avance o un terminal cie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on axiales y muy compacto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4. FORMULAS FUNDAMENT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objetivo es saber elegir el ventilador más conveniente en cuanto a su eficiencia, consumo de potencia y que asegure el mejor servici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esa determinar la potencia requerida del motor que acciona a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aire que queremos mover a través del circuito consume energía debido a las pérdidas de presión producidas por la resistencia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09T02:42:19Z</dcterms:modified>
  <cp:revision>29</cp:revision>
  <dc:subject/>
  <dc:title>VENTILADORES DE MINAS</dc:title>
</cp:coreProperties>
</file>